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37B-9FDB-49BA-8FCD-FFC162A7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7DE-AB93-4F0D-AF93-498110DF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82B-E483-4433-AE31-0E74EC84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4B1-2C56-4866-9D89-84994957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43A-2CCD-40FC-9B27-35939C12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B87-500C-46B7-802D-9322D98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4393-91BC-478F-985E-E644C02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405-3571-4FFC-B5AC-157A9A9A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E7E-14D8-4EB9-8B6B-DD203C85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D28-2579-42F7-951D-9BA78C0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643-D386-458B-9B8A-60FD770E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EA2-ED36-409C-AAC9-AC41C92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3E0-B09C-4D8E-87A0-4BD055BF7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s://bcis-us-scubadiving.wikispaces.com/file/view/scubadiving.gif&amp;imgrefurl=https://bcis-us-scubadiving.wikispaces.com/Revision%2B1%3Ff%3Dprint&amp;usg=__1Ydt-vxurAcUoiEpMzjMrD-BtHM=&amp;h=291&amp;w=312&amp;sz=5&amp;hl=es&amp;start=3&amp;tbnid=KmK4sj2700Z9LM:&amp;tbnh=109&amp;tbnw=117&amp;prev=/images%3Fq%3Dscubadiving%26gbv%3D2%26hl%3Des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es/imgres?imgurl=http://myhappydance.com/images/gymnastics_set_2.jpg&amp;imgrefurl=http://myhappydance.com/product_info.php/products_id/2214&amp;usg=__ZpEi5POgumdKejVRbpTt-tk1suo=&amp;h=341&amp;w=480&amp;sz=23&amp;hl=es&amp;start=18&amp;tbnid=hGOdjuacaW2XHM:&amp;tbnh=92&amp;tbnw=129&amp;prev=/images%3Fq%3DGYMNASTICS%26gbv%3D2%26hl%3Des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333360"/>
            <a:ext cx="58327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POR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479520"/>
            <a:ext cx="52578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KI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73240"/>
            <a:ext cx="6264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TABLE TEN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03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CE SKA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76280"/>
            <a:ext cx="5545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CUBA DIV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579680"/>
            <a:ext cx="496872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GYMNAST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1000" y="333360"/>
            <a:ext cx="5817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75964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WIMM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27280" y="76500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YNCRONIZED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SWIMM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855800"/>
            <a:ext cx="68407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UNGY JUMP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04760" y="752400"/>
            <a:ext cx="71344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HANG GLID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33520" y="1414440"/>
            <a:ext cx="44769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PARACHU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KARA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HIK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987480"/>
            <a:ext cx="74170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736720" y="2773440"/>
            <a:ext cx="36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RUG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23920" y="852480"/>
            <a:ext cx="6896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87880" y="2773440"/>
            <a:ext cx="617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CE HOCKE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84640" y="2773440"/>
            <a:ext cx="437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CRICK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784080"/>
            <a:ext cx="82803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773440"/>
            <a:ext cx="754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BADMINNT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370160"/>
            <a:ext cx="69850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CYCL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523880"/>
            <a:ext cx="87487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CAR RAC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722160"/>
            <a:ext cx="56167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FOOT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5:03:06Z</dcterms:created>
  <dc:creator>rmi</dc:creator>
  <dc:description/>
  <dc:language>en-US</dc:language>
  <cp:lastModifiedBy>Profesor</cp:lastModifiedBy>
  <dcterms:modified xsi:type="dcterms:W3CDTF">2010-04-07T12:24:22Z</dcterms:modified>
  <cp:revision>5</cp:revision>
  <dc:subject/>
  <dc:title>Diapositiva 1</dc:title>
</cp:coreProperties>
</file>